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540-C50C-460E-A8B0-C3C91C55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DFB-A256-4C5A-99B4-C14FBAF3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075-D05D-4371-9935-36648D92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65A-A196-4083-9237-EE6985BB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C349-9662-4549-9399-64D159D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DA3C-8C6E-4E23-A267-90F7C1B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9733-200A-48C6-9618-5773B79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79E-3FD0-41FF-9813-B3E69D55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A3DA-FCF6-4B73-ACDE-0E23C78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47A4-05F6-40F3-8560-37AF0DB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753-C64A-43A2-8396-2953C11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F6F-C451-46E6-A9F7-902B18A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1CDC-B114-41AF-9456-10BFEB3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C43-B9BA-4D8C-8375-1F1C237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9145-80A2-43EA-994C-322B969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E471-9704-488A-85D9-27272BEB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DD9-1654-4B6D-B2CF-80397760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762-247E-41F0-B663-BCB3A0D3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5E8-61D8-4216-A4DD-9999D5E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63D-DDE4-4844-95C9-4003946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A7F-7D44-49B4-AB7A-7EDAC1F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CB9-3080-4958-8281-E65A528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032-D156-43E1-847C-52609F3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EE7-B178-4DF7-A1C1-9EF80FE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A97-9A6F-4F73-A351-6640AB6FAD6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EFE-D4FC-4C0D-A8B3-98825BCAFA7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Arial"/>
              </a:rPr>
              <a:t>Evaluare iniţial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ealizată 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f. Carmen Băi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913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24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5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f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(val_iniţială;val_finală;pas_actualiz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t_instrucţiu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1 – Se iniţializează contorul cu valoarea iniţia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2 – Se evaluează condiţia(dacă contorul a ajuns la valoarea final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3 – Dacă condiţia este adevărată se execută setul de instrucţiuni subordonat, se actualizează contorul şi se revine la pasul 2. Dacă ea este falsă se iese din structura repetitiv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48604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5623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3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4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Întrebări matematic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m verificăm paritatea unui numă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m se află cel mai mare divizor dintre două num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e înţelegem printr-un număr pri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Arial"/>
              </a:rPr>
              <a:t>Evaluare iniţial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ealizată 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f. Carmen Băi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Alegeţi variantele corect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are sunt instrucţiunile repet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..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ţiunea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913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40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8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2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condiţ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t_instrucţiu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s 1 – Se evaluează condiţ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s 2 – Dacă ea este adevărată se execută setul de instrucţiuni subordonat şi se revine la pasul 1. Dacă ea este falsă se iese din structura repetitiv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94324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36478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0060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ai încearcă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1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Arial"/>
              </a:rPr>
              <a:t>Specificaţi structura şi modul de execuţie al  instrucţiunii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 .. w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ăspuns cor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uct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t_instrucţiu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whi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condiţ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d de execuţ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1 – Se execută setul de instrucţiuni subordonat şi se evaluează condiţ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2 – Dacă ea este adevărată se revine la pasul 1. Dacă ea este falsă se iese din structura repetitiv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5623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elicitări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3648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3:40:25Z</dcterms:created>
  <dc:creator>curs</dc:creator>
  <dc:description/>
  <dc:language>en-US</dc:language>
  <cp:lastModifiedBy>curs</cp:lastModifiedBy>
  <dcterms:modified xsi:type="dcterms:W3CDTF">2010-12-03T16:27:06Z</dcterms:modified>
  <cp:revision>8</cp:revision>
  <dc:subject/>
  <dc:title>Evaluare iniţială</dc:title>
</cp:coreProperties>
</file>